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20110"/>
        <c:axId val="76832024"/>
      </c:barChart>
      <c:catAx>
        <c:axId val="85620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32024"/>
        <c:crosses val="autoZero"/>
        <c:auto val="1"/>
        <c:lblAlgn val="ctr"/>
        <c:lblOffset val="100"/>
        <c:noMultiLvlLbl val="0"/>
      </c:catAx>
      <c:valAx>
        <c:axId val="76832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20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72C-7D18-4DB6-BFAB-A505FCD2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449-4A57-4C5E-A66C-6F3F06BA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ED5-53BA-4AA3-9DA6-871C53D6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FF7-9DF0-4EA6-88DE-8AB37771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174-05FE-488C-807B-EF3620CE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113-E3CD-41D5-A5AB-C15162C8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86D-8275-497E-ACEB-A0DFF8E7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662-F9E9-43E4-B6CE-56674ECF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317-F26C-4AF2-9916-5251C7AF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34F-D369-4D73-9EFD-4E28B439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3F5-6442-482D-8298-80818BDB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56A-88D6-4B6F-A42F-557BB370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1619D-EC68-4B07-9D31-C413632D99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