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09692"/>
        <c:axId val="54763382"/>
      </c:barChart>
      <c:catAx>
        <c:axId val="23309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63382"/>
        <c:crosses val="autoZero"/>
        <c:auto val="1"/>
        <c:lblAlgn val="ctr"/>
        <c:lblOffset val="100"/>
        <c:noMultiLvlLbl val="0"/>
      </c:catAx>
      <c:valAx>
        <c:axId val="54763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09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D49-5A53-4510-BEBF-D5356E08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B4B-DCCD-4660-A9A3-874E8A00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70C-3F58-46B7-BDF0-2572859A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192-3332-45F7-A183-9B6DF14E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D00-9833-4482-AC94-F9F3CF08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8CE-6232-4042-A79F-DC818D72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12A-FA8E-4FD1-A838-A6692020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B55-7A1A-4E21-A1D2-BDC46C4C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7DC-F71B-4168-818C-6D43047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3CE-5A95-465D-A721-839FE9F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F0F-9187-4EE6-9FFB-F2834F79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E28-5A34-421A-8001-77A48982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B9683-65E5-4BE9-B339-0A3C3ED164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