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203184"/>
        <c:axId val="37238690"/>
      </c:barChart>
      <c:catAx>
        <c:axId val="892031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238690"/>
        <c:crosses val="autoZero"/>
        <c:auto val="1"/>
        <c:lblAlgn val="ctr"/>
        <c:lblOffset val="100"/>
        <c:noMultiLvlLbl val="0"/>
      </c:catAx>
      <c:valAx>
        <c:axId val="372386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2031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1A2F-180D-40B0-AAAF-EA00F370F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352E-A53D-4ED3-B468-A714CF8DA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7F4C-FF26-42FA-B396-036B3A144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BFB5-4478-4826-9307-C5164A477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17E9-1A3C-4BEC-B59D-B6B063A16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6980-DBBF-4029-B7A4-789493595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8D15-48D7-438E-AA79-3E7081AB4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4F37-C072-4061-8385-9F583A355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6742-2052-47CB-9776-E8B33C293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0809-2ED9-40B2-9940-F147A265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C5D1-4C51-4120-BE4D-92C9CD5C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5EEB-7A39-4E25-B549-ADC4DB19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20A947-653B-43A9-A56C-6F8800DFD43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