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8723914"/>
        <c:axId val="96665867"/>
      </c:barChart>
      <c:catAx>
        <c:axId val="8872391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665867"/>
        <c:crosses val="autoZero"/>
        <c:auto val="1"/>
        <c:lblAlgn val="ctr"/>
        <c:lblOffset val="100"/>
        <c:noMultiLvlLbl val="0"/>
      </c:catAx>
      <c:valAx>
        <c:axId val="9666586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872391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D0CFF-9F51-4B8A-9F23-10C39DAFD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30FE7-29B6-4FF1-88CC-0193787A9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B124F-B094-405A-B1A7-982528B4D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B2A44-2F83-42F7-9185-DD42782BB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83F36-B187-4CC2-BE05-A76838C63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88755-548F-46E9-8C24-2EA32E995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56DCE-40C0-4BF7-BA76-511DBED0C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6287A-5D53-4442-A4FF-BDB78F1DE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20616-3B3C-45E5-9E7E-264B43990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42831-FBAA-4C04-BAB5-203E6CEF6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EE70F-8853-4A1A-849D-D24EAC84E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854CF-921E-49BD-AC64-CFD0564D9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427B7C-DE2E-4E54-BB25-8EB7AEE2AC4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